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1E33-2387-4079-ACFF-0F190455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102-238F-4D5B-8324-3D77DE3FA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62C-0F42-4469-8E3E-893175E340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B465-898F-4740-8F2D-198C993EE3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24BC-B9E3-4FFD-BABF-2CD907925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BC1-8C7B-4F5E-823B-A6A6DB949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BD5-52FC-469A-902B-87534BDF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F85-89D6-47DB-92C5-C780633B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8FE-A80D-462E-90D8-A2F2787B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48B-B3DF-41EF-842E-CFF27C14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4FA-8EDC-466D-9FFA-65FFCCED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7BE-876B-4D9F-953F-3D14A4FC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43A-AFAC-435B-A9F1-62B1314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B0D-988C-4921-8F9C-3CA29BD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624-35E7-4B4D-AC2C-FD571286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9B8-87C4-43BD-A270-7D27AA0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943-AB8A-4D5B-9B27-3B10D6F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E4C-EE8A-441A-B3D1-1111580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6637-071E-4299-AF0C-A8B2FE3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534-346F-49FE-AF61-A500D47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AF66-5E89-4C72-BB0A-07515FD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6F3-1CF1-4FC6-87AE-F10216A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7ED-188D-44FE-9EF9-60B2C671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5F7-26BD-4E77-8DC0-ECAE37F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A29-E088-4AFD-BCFE-CC31815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061-FD50-4387-A03A-023E2F18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85B-AA1B-46DC-8917-EE8644D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B99-9C7F-49E8-85D8-8C300B9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175-883A-4F3F-8E08-58A07E9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B60-2613-495C-BC72-03C3E1C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5CCD-BDAC-450B-BC15-0CB6EEC76C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35D-45AB-40DD-8BCF-9A8F9819B0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w.umkc.edu/faculty/projects/FTrials/conlaw/supremebuilding.jpg&amp;imgrefurl=http://www.law.umkc.edu/faculty/projects/FTrials/conlaw/supremecourtintro.html&amp;usg=__NClfUeBPD1HRTZYdhIkg9xR8Wtk=&amp;h=359&amp;w=360&amp;sz=28&amp;hl=en&amp;start=1&amp;tbnid=-a3q2IKd90FnqM:&amp;tbnh=121&amp;tbnw=121&amp;prev=/images%3Fq%3Dcourt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sgv.org/atf/cf/%257B23E96A35-4C75-41EE-BDDD-4BD3A3B59010%257D/GAVEL_COURT.JPG&amp;imgrefurl=http://www.csgv.org/site/c.pmL5JnO7KzE/b.3509331/&amp;usg=__azBWbjaBz_yXfLf6UcVPvWxEYZY=&amp;h=860&amp;w=558&amp;sz=574&amp;hl=en&amp;start=3&amp;tbnid=xDrU5E2KY2E_NM:&amp;tbnh=145&amp;tbnw=94&amp;prev=/images%3Fq%3Dcour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b.montevallo.edu/MIS267/SteerJF/mai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israel.org/Eng/_Uploads/180courtHammer.jpg&amp;imgrefurl=http://www.aisrael.org/Eng/Index.asp%3FArticleID%3D180%26CategoryID%3D60&amp;usg=__H-8x1BduxpfkM9Wyf_OcCx0HYLk=&amp;h=300&amp;w=403&amp;sz=26&amp;hl=en&amp;start=20&amp;tbnid=l0l6yFu8SJ3_oM:&amp;tbnh=92&amp;tbnw=124&amp;prev=/images%3Fq%3Dcourt%26gbv%3D2%26ndsp%3D18%26hl%3Den%26sa%3DN%26start%3D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lipart.peirceinternet.com/png/schoolhouse1.png&amp;imgrefurl=http://clipart.peirceinternet.com/educ.html&amp;usg=__fF-BrF9KRxJvTkzTKH4cKYsUnrk=&amp;h=331&amp;w=361&amp;sz=18&amp;hl=en&amp;start=13&amp;tbnid=J50M7FHvdr8NIM:&amp;tbnh=111&amp;tbnw=121&amp;prev=/images%3Fq%3Dschool%2Bhouse%26gbv%3D2%26hl%3De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2770200" y="4572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Religion in the Public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33520" y="9144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ublic Schools may not inculcate nor inhibit religion.  Schools must be places where religion and religious conviction are treated with fairness and respect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2413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ngress shall make no law respecting an establishment of religion, or prohibiting the free exercise thereof, or abridging the freedom of speech, or of the press; or the right of the people peaceably to assemble, and to petition the government for a redress of grievan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0080" y="198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First Amend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8580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have a secular purpo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have the principal or primary effect o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dvan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hibi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foster an excessive entanglement of government with relig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5800" y="3657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Lemon v. Kurtzman    (Lemon Tes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http://tbn2.google.com/images?q=tbn:-a3q2IKd90FnqM:http://www.law.umkc.edu/faculty/projects/FTrials/conlaw/supremebuil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4572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anta Fe Independent School District v. Doe 530 U. S. 290 (2000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Court ruled prayer over a loudspeaker at a government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ponsored even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overnment property (football game on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istrict property) is a violation of the Establishment Cl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74200" y="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.  Student Pray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09480" y="227484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ablishment Clause does not prohibit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rely priv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us spee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 may read Bibles, say grace, say prayer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ytime it is not disruptive to the learning pro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 gatherings are ok (Meet at Pol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 may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either discourage or encou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7524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tudent Prayer and  Religious Discus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33520" y="3962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2.  Graduation Prayers and 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3520" y="4495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e v. Weisman 505 U. S. 577 (199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uled graduation prayers unco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40000" y="54100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57200" y="5934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hool may not extend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eferent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reatment to baccalaureate ceremonies and may in some instances be obligated to disclaim official endorsement of such ceremonie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2" descr="http://tbn0.google.com/images?q=tbn:xDrU5E2KY2E_NM:http://www.csgv.org/atf/cf/%257B23E96A35-4C75-41EE-BDDD-4BD3A3B59010%257D/GAVEL_COU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5211720"/>
            <a:ext cx="1066680" cy="16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533520" y="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3.  Participation in or Encouragement of Religious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457200"/>
            <a:ext cx="77724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eachers and school administrators or employe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cting in those capacities,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are representatives of the st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r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prohibi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y the establishment claus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rom soliciting or encouragin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ligious activity, and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from participa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such activity with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loyees also are prohibited from discouraging activity because of its religious content, and from soliciting or encouraging anti-religious activ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440" y="243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4.  Religion in School Curricul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2895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eligion is a natural part of history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is included in the approved curriculum in S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the topic is addressed,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hasis must be purely acade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not devotio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y teach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its influence on areas such as art, music, literature, and social stud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57200" y="4572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5. Religious Content in Student Assign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09480" y="51037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may express their beliefs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the form of homework, artwork, and other written and oral assignments free of discrimination based on the religious content of their submi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ch home and classroom work should be judged by ordinary academic standards of substance and relevance and against other legitimate pedagogical concerns identified by the scho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USA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8580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6. Distribution of  Religious Lit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09480" y="609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enerally shall not permit formal distribu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f any materials from any non-school organization, regardless of the content of the materia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n school proper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Accordingly, students generally should not distribute flyers to all students on a mass level at specific established locations at the school.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can distribute information on an informal basis that is not disrup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2438280"/>
            <a:ext cx="8077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have a right to distribute religious literature to their schoolmates on the same terms as they are permitted to distribute other litera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at is unrelated to school curriculum or activities.  Schools may impose reasonable time, place, and manner on distribution of religious literature as they do on nonschool literature general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09480" y="4114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7.  Student Participation in Religious Events Before and After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85800" y="4800600"/>
            <a:ext cx="762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re is no legal reason not to allow students to participate in religious events “before and after school,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do not interfere with instructional time or the educational proc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" descr="http://tbn2.google.com/images?q=tbn:l0l6yFu8SJ3_oM:http://www.aisrael.org/Eng/_Uploads/180courtHamm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670720"/>
            <a:ext cx="21333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://tbn0.google.com/images?q=tbn:J50M7FHvdr8NIM:http://clipart.peirceinternet.com/png/schoolhous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4648320"/>
            <a:ext cx="1152360" cy="1057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45720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hough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blic schools may teach about religious holida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including their religious aspects, and may celebrate the secular aspects of holiday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s may not observe holidays as religious ev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promote such observance by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84200" y="3049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8.  Religious Holid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5096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 to applicable State law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 Boards may allow religious instruction off school propert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f allowed, schools may not encourage or discourage participation or penalize those who do att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06520" y="21337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9. Released Time for Religious Instr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3520" y="4419720"/>
            <a:ext cx="82296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rally, if secondary public schools have 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imited open foru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(allows non-curriculum clubs to meet), the school must allow religious groups the same access to the school media, (PA system, school newspaper, bulletin board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92120" y="373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0.  Federal Equal Access 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" descr="http://tbn0.google.com/images?q=tbn:mK8Yl1MTUiuAAM:http://www.easymilano.com/wp/wp-content/uploads/2009/04/us-flag.jpg"/>
          <p:cNvPicPr/>
          <p:nvPr/>
        </p:nvPicPr>
        <p:blipFill>
          <a:blip r:embed="rId3"/>
          <a:stretch/>
        </p:blipFill>
        <p:spPr>
          <a:xfrm>
            <a:off x="4419720" y="5562720"/>
            <a:ext cx="1181160" cy="88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57:45Z</dcterms:created>
  <dc:creator>Human Resources</dc:creator>
  <dc:description/>
  <dc:language>en-US</dc:language>
  <cp:lastModifiedBy>jshearer</cp:lastModifiedBy>
  <dcterms:modified xsi:type="dcterms:W3CDTF">2009-07-02T20:25:10Z</dcterms:modified>
  <cp:revision>60</cp:revision>
  <dc:subject/>
  <dc:title>S. C. Code Ann. 59-17-140</dc:title>
</cp:coreProperties>
</file>